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11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7.jpeg" ContentType="image/jpeg"/>
  <Override PartName="/ppt/media/image1.jpeg" ContentType="image/jpeg"/>
  <Override PartName="/ppt/media/image10.png" ContentType="image/png"/>
  <Override PartName="/ppt/media/image22.jpeg" ContentType="image/jpeg"/>
  <Override PartName="/ppt/media/image9.png" ContentType="image/pn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2CE-0037-4696-A8BC-79F6757F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9951-4A96-4E93-97EE-54DF7319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788-70B8-46CB-BD0F-1298A849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625-F409-4D81-B467-E32C392B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E00-7FAF-489E-AAF0-FB9CCF9D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E10-96B1-47AD-8AF7-2EBA985C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854-6BD7-4316-BD65-1FC0BD12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EDE-22AB-47CC-B081-7DDA4BB5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70B-663D-409E-9460-F36A2923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556-70CF-4D6B-BFD6-8ABCD30A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17D-8E18-44CF-B622-482952AA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F8F-983A-4F0A-B1D2-47EDB7E1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8F2F-CAC1-4B54-B1B1-701AE6B14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95520" y="3200400"/>
            <a:ext cx="1314360" cy="1905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187488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186680" y="3200400"/>
            <a:ext cx="150012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638680" y="3200400"/>
            <a:ext cx="1360440" cy="190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124080" y="152280"/>
            <a:ext cx="2743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ff"/>
                  </a:solidFill>
                  <a:miter/>
                </a:ln>
                <a:solidFill>
                  <a:srgbClr val="0099ff"/>
                </a:solidFill>
                <a:latin typeface="Bradley Hand ITC"/>
              </a:rPr>
              <a:t>Die Mode</a:t>
            </a:r>
            <a:endParaRPr b="1" lang="en-US" sz="1800" spc="1" strike="noStrike">
              <a:ln w="9360">
                <a:solidFill>
                  <a:srgbClr val="0099ff"/>
                </a:solidFill>
                <a:miter/>
              </a:ln>
              <a:solidFill>
                <a:srgbClr val="0099ff"/>
              </a:solidFill>
              <a:latin typeface="Bradley Hand ITC"/>
              <a:ea typeface="Bradley Hand ITC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114800" y="3200400"/>
            <a:ext cx="1219320" cy="1866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2004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05120" y="4648320"/>
            <a:ext cx="4284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0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352680" y="3276720"/>
            <a:ext cx="4287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0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76920" y="4648320"/>
            <a:ext cx="42840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0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3276720"/>
            <a:ext cx="4287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0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29600" y="4648320"/>
            <a:ext cx="4287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00'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67240" cy="518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318600">
            <a:off x="990720" y="874440"/>
            <a:ext cx="3504960" cy="3468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959280" y="4572000"/>
            <a:ext cx="1222200" cy="204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116680" y="4572000"/>
            <a:ext cx="143640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324480" y="4572000"/>
            <a:ext cx="2514600" cy="1974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4120" y="1584360"/>
            <a:ext cx="2819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Arial"/>
              </a:rPr>
              <a:t>Sie trägt ein wieß und schwarz gepunktet Klei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4572000"/>
            <a:ext cx="4952880" cy="2057400"/>
          </a:xfrm>
          <a:prstGeom prst="rect">
            <a:avLst/>
          </a:prstGeom>
          <a:noFill/>
          <a:ln w="763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b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21042600">
            <a:off x="838080" y="838080"/>
            <a:ext cx="4467240" cy="5181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4419720"/>
            <a:ext cx="1143000" cy="2176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 rot="21348600">
            <a:off x="2166480" y="1446120"/>
            <a:ext cx="1795680" cy="3424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943600" y="4419720"/>
            <a:ext cx="1143000" cy="2209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57800" y="1523880"/>
            <a:ext cx="3429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ff"/>
                </a:solidFill>
                <a:latin typeface="Arial"/>
              </a:rPr>
              <a:t>Sie tr</a:t>
            </a:r>
            <a:r>
              <a:rPr b="1" lang="en-US" sz="2500" spc="-1" strike="noStrike">
                <a:solidFill>
                  <a:srgbClr val="0099ff"/>
                </a:solidFill>
                <a:latin typeface="Century Gothic"/>
              </a:rPr>
              <a:t>ägt eine </a:t>
            </a:r>
            <a:r>
              <a:rPr b="1" lang="en-AU" sz="2400" spc="-1" strike="noStrike">
                <a:solidFill>
                  <a:srgbClr val="0099ff"/>
                </a:solidFill>
                <a:latin typeface="Century Gothic"/>
              </a:rPr>
              <a:t>hohe taillierte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99ff"/>
                </a:solidFill>
                <a:latin typeface="Century Gothic"/>
              </a:rPr>
              <a:t>Jeans, einen goldene Grürtel und eine hell blau Hem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467480" y="4419720"/>
            <a:ext cx="1166760" cy="2195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467480" y="4419720"/>
            <a:ext cx="1143000" cy="2209680"/>
          </a:xfrm>
          <a:prstGeom prst="rect">
            <a:avLst/>
          </a:pr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4419720"/>
            <a:ext cx="1143000" cy="2209680"/>
          </a:xfrm>
          <a:prstGeom prst="rect">
            <a:avLst/>
          </a:pr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4419720"/>
            <a:ext cx="1143000" cy="2209680"/>
          </a:xfrm>
          <a:prstGeom prst="rect">
            <a:avLst/>
          </a:pr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62520" y="380880"/>
            <a:ext cx="4467240" cy="5181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 rot="268800">
            <a:off x="5132160" y="990360"/>
            <a:ext cx="2259000" cy="3352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80880" y="4267080"/>
            <a:ext cx="12430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605040" y="4267080"/>
            <a:ext cx="1347840" cy="198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981080" y="4267080"/>
            <a:ext cx="1338480" cy="1995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1295280"/>
            <a:ext cx="3429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cc"/>
                </a:solidFill>
                <a:latin typeface="Arial"/>
              </a:rPr>
              <a:t>Sie tr</a:t>
            </a:r>
            <a:r>
              <a:rPr b="1" lang="en-US" sz="2500" spc="-1" strike="noStrike">
                <a:solidFill>
                  <a:srgbClr val="ff33cc"/>
                </a:solidFill>
                <a:latin typeface="Century Gothic"/>
              </a:rPr>
              <a:t>ägt ein rot und rosa Sweatshirt, rot </a:t>
            </a:r>
            <a:r>
              <a:rPr b="1" lang="en-AU" sz="2500" spc="-1" strike="noStrike">
                <a:solidFill>
                  <a:srgbClr val="ff33cc"/>
                </a:solidFill>
                <a:latin typeface="Century Gothic"/>
              </a:rPr>
              <a:t>leggings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33cc"/>
                </a:solidFill>
                <a:latin typeface="Century Gothic"/>
              </a:rPr>
              <a:t>, rosa </a:t>
            </a:r>
            <a:r>
              <a:rPr b="1" lang="en-AU" sz="2500" spc="-1" strike="noStrike">
                <a:solidFill>
                  <a:srgbClr val="ff33cc"/>
                </a:solidFill>
                <a:latin typeface="Century Gothic"/>
              </a:rPr>
              <a:t>beinlinge</a:t>
            </a:r>
            <a:r>
              <a:rPr b="1" lang="en-US" sz="2500" spc="-1" strike="noStrike">
                <a:solidFill>
                  <a:srgbClr val="ff33cc"/>
                </a:solidFill>
                <a:latin typeface="Century Gothic"/>
              </a:rPr>
              <a:t> und </a:t>
            </a:r>
            <a:r>
              <a:rPr b="1" lang="en-AU" sz="2500" spc="-1" strike="noStrike">
                <a:solidFill>
                  <a:srgbClr val="ff33cc"/>
                </a:solidFill>
                <a:latin typeface="Century Gothic"/>
              </a:rPr>
              <a:t>ein stirnband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33cc"/>
                </a:solidFill>
                <a:latin typeface="Century Gothic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4267080"/>
            <a:ext cx="1371600" cy="1981440"/>
          </a:xfrm>
          <a:prstGeom prst="rect">
            <a:avLst/>
          </a:pr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267080"/>
            <a:ext cx="1371600" cy="1981440"/>
          </a:xfrm>
          <a:prstGeom prst="rect">
            <a:avLst/>
          </a:pr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4267080"/>
            <a:ext cx="1219320" cy="1981440"/>
          </a:xfrm>
          <a:prstGeom prst="rect">
            <a:avLst/>
          </a:prstGeom>
          <a:noFill/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2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467240" cy="518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rot="326400">
            <a:off x="1676520" y="1371600"/>
            <a:ext cx="2286000" cy="3354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657600" y="228600"/>
            <a:ext cx="1219320" cy="190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029200" y="22860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28600"/>
            <a:ext cx="1219320" cy="190512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28600"/>
            <a:ext cx="1219320" cy="190512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52280"/>
            <a:ext cx="2438280" cy="198144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666880"/>
            <a:ext cx="33526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ff99"/>
                </a:solidFill>
                <a:latin typeface="Arial"/>
              </a:rPr>
              <a:t>Sie trägt einen grünen Rock, </a:t>
            </a:r>
            <a:r>
              <a:rPr b="1" lang="en-US" sz="2500" spc="-1" strike="noStrike">
                <a:solidFill>
                  <a:srgbClr val="00ff99"/>
                </a:solidFill>
                <a:latin typeface="Arial"/>
              </a:rPr>
              <a:t>einen gelben Grürtel</a:t>
            </a:r>
            <a:r>
              <a:rPr b="1" lang="de-DE" sz="2500" spc="-1" strike="noStrike">
                <a:solidFill>
                  <a:srgbClr val="00ff99"/>
                </a:solidFill>
                <a:latin typeface="Arial"/>
              </a:rPr>
              <a:t> und eine geblümt Blusse.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5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19560" y="304920"/>
            <a:ext cx="4467240" cy="5181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8436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282000">
            <a:off x="5790960" y="914400"/>
            <a:ext cx="146052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200400" y="2286000"/>
            <a:ext cx="990720" cy="2209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28600" y="2286000"/>
            <a:ext cx="1000080" cy="2152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523880" y="2286000"/>
            <a:ext cx="148140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057400" y="228600"/>
            <a:ext cx="2057400" cy="1944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0"/>
            <a:ext cx="43434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fa1"/>
                </a:solidFill>
                <a:latin typeface="Arial"/>
              </a:rPr>
              <a:t>Sie tr</a:t>
            </a:r>
            <a:r>
              <a:rPr b="1" lang="en-US" sz="2500" spc="-1" strike="noStrike">
                <a:solidFill>
                  <a:srgbClr val="ff9fa1"/>
                </a:solidFill>
                <a:latin typeface="Century Gothic"/>
              </a:rPr>
              <a:t>ägt eine Jeansrocke</a:t>
            </a:r>
            <a:r>
              <a:rPr b="1" lang="en-US" sz="2500" spc="-1" strike="noStrike" u="sng">
                <a:solidFill>
                  <a:srgbClr val="ff9fa1"/>
                </a:solidFill>
                <a:uFillTx/>
                <a:latin typeface="Century Gothic"/>
              </a:rPr>
              <a:t>,</a:t>
            </a:r>
            <a:r>
              <a:rPr b="1" lang="en-US" sz="2500" spc="-1" strike="noStrike">
                <a:solidFill>
                  <a:srgbClr val="ff9fa1"/>
                </a:solidFill>
                <a:latin typeface="Century Gothic"/>
              </a:rPr>
              <a:t> eine weit, geblümt Blusse, einen braunen Grürtel, eine bruane Tasche und einen brauen Absatz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2286000"/>
            <a:ext cx="990720" cy="220968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286000"/>
            <a:ext cx="1447920" cy="220968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286000"/>
            <a:ext cx="990720" cy="220968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52280"/>
            <a:ext cx="1600200" cy="205740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228600"/>
            <a:ext cx="2057400" cy="1905120"/>
          </a:xfrm>
          <a:prstGeom prst="rect">
            <a:avLst/>
          </a:prstGeom>
          <a:noFill/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08:22:51Z</dcterms:created>
  <dc:creator>WalkerPC-Dell</dc:creator>
  <dc:description/>
  <dc:language>en-US</dc:language>
  <cp:lastModifiedBy>walkeemi</cp:lastModifiedBy>
  <dcterms:modified xsi:type="dcterms:W3CDTF">2009-09-03T01:15:04Z</dcterms:modified>
  <cp:revision>9</cp:revision>
  <dc:subject/>
  <dc:title>Slide 1</dc:title>
</cp:coreProperties>
</file>